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B00-B5A5-490E-9BB6-F99996AB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F74-16F6-4D3E-85F9-BAEA3945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0C0F1-E13A-465F-9A85-5250F38B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1DAB1-CA81-4D52-A2A3-A30DE7ED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05018-6380-496C-AEAD-BD6A86DE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B4D41-8B49-408E-9AF9-E9EF75FE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E7DD5-F598-46DA-BCB7-EC9EC0C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B1DA8-58DE-4F1E-B6CF-8836CBEB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C80AA-7559-4561-8254-10CDB234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61A6F-D963-455C-8196-2BB292BB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77276-D9D8-4087-BB7C-A75A99CB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FF9E7-2230-4F24-94FC-559CF55E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3E8-3EC5-48FE-9CB8-6C0FB75F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674B9-5069-44F5-B68D-35321922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0CADD-F34D-4858-9012-1D163F19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EEA3A-A453-4ADB-A8F9-B9D5FDE7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55191-805E-447D-AD15-71F4C518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CAF2B-7CE8-450D-A483-9C4BDCDB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F4038-BA66-49D7-BB54-A3073C1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41C7A-83B4-48FE-A146-411098A6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7E59F-C0D5-4DAA-B5F7-81F983C9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32D89-DDA7-4729-B52B-6CE9C0C1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48E3E-5093-4A17-8EE8-ED7A6DB3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671-D47C-4BBB-9F64-7DEA2A67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8D6E8-FD92-49AF-BA27-FDE675BB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4BEED-FCEC-4BBD-88EA-3B2CA4DC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13AEB-88F2-4010-A1EA-10655BD2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3C3B3-D6F4-40F5-9185-C6142A8E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8D093-368B-44D3-BD75-75A01743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C6C79-A400-4891-A556-E943C8E8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BC82B-C031-4CDC-8597-2CEB3F51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C8F1D-A494-4B0E-ABAF-0D9C306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A3DCD-F30C-462F-9924-15B45B05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878BB-73A4-4739-866E-4A873FCA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19BD-2317-47AF-851F-E171C2F4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8BABB-4D18-44C8-A68E-D778CD0A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3A2A9-63A9-4FB5-8027-FC097764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913F7-AE6D-49F4-878F-3388660A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C5DBB-EE78-44B7-A571-570FD73D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79786-D414-4207-A92D-525A2EF6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7158D-F802-43E6-9629-4A2B7A17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7A941-7EBF-4689-8EB9-F94AA570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553A0-E976-4862-90AC-7ACDABB3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1C05D-ED33-474F-BF87-FC62098A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B5A5C-ADC7-433C-9FC9-AE9880FE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2E40-A340-46B0-AA14-7B0FBF8D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43F91-492C-4593-9B44-9EE59439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974BC-8ADB-4A56-9A0B-CA68D623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5761E-475E-4F8B-B35D-D30BE479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8A8BB-FFA2-498E-BA72-A0FD827B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CA18B-469E-495D-92A0-2B526B87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159F-429E-482B-9467-EF0CB442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EC15-AD4E-46D2-8105-B6BBAFDD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2465-481C-490A-89EB-ED019DB7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E47-4268-40D2-80EA-A8E80DBB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A4D6-8F51-4B39-AE25-41F38F0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77D-B9B7-432A-8204-38F29F12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9F93-F719-4149-B56D-0435B596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ACDF-367A-48B1-80CD-C2F701A1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0802-02C8-4CC7-B220-1A01BD51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AE0D-0F6C-40AE-AAD4-7FAC7F30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5699-575F-4354-885E-68F46924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C29E-4B8F-43FB-9627-D6D0C97C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6814-2C9D-4BDC-A578-D2A6C1F6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A882-7BF5-402E-BE13-E063C8A2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E04A3-4BF8-451A-B6F7-5F3B861E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7DDA-D69C-48E8-8CDA-2FC8ACC4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846-258D-4710-969F-3AE81749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1D42E-C9EE-4336-A1E6-2701B70B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B834-46E4-4156-BE7D-0C222717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991C4-5B7F-4E78-9F21-A8DFE127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DCC1-6C54-466C-99A3-A37A78BE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058C-12AB-4510-883A-3DA754F7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157F-C4E1-4DD8-8C4D-F32E551C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1598-1CBB-4B98-9C60-CB609E86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F9F9-5DCC-4B1B-A1A6-DA99B71A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5F3C-F951-4934-8FF1-CA7367BF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4AD1-ADDE-4E19-95C3-ACA499C5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CB2-25AB-466F-9EA4-0E7AE4EB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3013E-6BCA-4CC3-9685-EFC1C28E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300FD-C0FD-4809-B820-CD8940E1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0A5F9-C7AB-443E-9D3C-647B825E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92A38-9B71-439E-B88F-DDD19BDB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CD3D-52D1-412D-8A93-440B8240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EFB0-4EE3-479A-9ED2-C97B7F67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467ED-3471-42D5-B187-C3F3E971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DF3A8-EDD4-4453-9691-8A320EE6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C5725-03FE-4C8F-A5CB-86EDA9B1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29195-B115-42CE-9CC1-081FF909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197-F5FD-499E-8B51-F3D45948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4197-8311-4E1B-9FBA-6880457D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2EC83-3B7F-4054-A7FC-A1B1D5F1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FD577-49ED-426F-B5FE-CCCB6B39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D01B9-17E3-45E5-83FD-DF92FFAB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367D0-BCED-45DF-8B0D-186DFE13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A8DAA-9FA3-4431-9E3E-79F614EB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0FC0B-1A74-46D2-8DB0-06191A53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778FE-B174-4BDC-A854-51EE7F26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4F1C-1B35-49D0-837D-039D45C0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6F85-DE8D-4423-B044-09B5ED44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562-15B3-484E-8EC2-3FE0D740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5F293-0D2F-4128-A73F-9F1C959B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A8D62-A590-4376-BC80-DE40BE43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D65A0-4ED8-41DD-A037-68FE1237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BF16A-0309-436C-A530-95A147F8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D815B-FDE5-451B-9424-E88527A4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86EF9-0D04-495E-8BC5-2D087320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D83D7-66C2-4A48-B2E2-5BEC4599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7E2B3-1E65-4F59-9AD1-A906645F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1BB8E-488C-48AF-820F-0544480A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23486-B2BA-4021-ADB8-48719B26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000-DFB7-40F0-A595-DB490AE7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1C689-BD70-4D96-BCE2-68C2673E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CA0B8-04DB-4AB1-8DBD-D016B9CD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6EBD6-E0F9-44B6-B40C-5F248469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FA2A-4401-4FD5-8E64-22A878F9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1E18E-5268-4EA1-B392-BCE50C32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2CDC9-0D63-4771-A5D2-67EAF790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DEB98-FDB6-4691-BEDE-A70A1200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BB907-0E7A-4167-8DC1-58D0D4F3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CB1BD-0DF3-41CE-92FC-9FAFC81F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B36D1-6EF9-4EE5-B03D-08C9D9E4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6F7-1E3E-4E1F-B449-46DFAEC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06E72-6026-48E2-8657-3180D3E3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C008D-58F5-4581-B2BD-8D6FFEAF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73545-8C8A-484E-BEAA-F3476EB7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21A96-AD7F-40BC-82B9-E0065278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8E14A-676E-4CFD-A169-EF5CF5BB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DFC71-81E5-42A4-9426-D83CB64D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6F9FF-AA34-4310-9E3A-22927BE8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18D7C-A451-4027-987C-8E34F935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187BA-FEA4-454F-8B6D-788E659C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D08D-8D21-4F16-9A83-4F7DAA9D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2EC-9B63-46EA-BA8C-342ABBC4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EDD1A-B4D6-4980-8F24-BDA5CB54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FDFD6-FBAD-4A5A-ADB6-2EB69F17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6335-4F26-461D-A4AD-28743824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73745-79E7-4E6C-8813-BB7F4C49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75AA4-42D8-4114-AEE5-D5A29AF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7F0B2-B037-4B4F-B433-EE2DD236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18F78-8924-4C6D-8CE4-1D9074CB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A1C88-322D-4C62-A184-DD375482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26E31-16AC-4D4C-8D6A-58C3DC61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DB481-1CCA-4CA1-89B7-6F4DF0A9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B24D-6060-40CC-BE1F-78CD71173C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4D4D-0B3A-47D8-A56B-5BE7A56F5C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5CE4-ED9D-4E85-86A2-11BE472C0E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A813-9366-4901-9310-CC2EC03215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7A7A-66C3-4127-9E16-76EEE19EC1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EE1D-4B6F-4575-B315-E26513FAEB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D995-A55F-4201-88C5-072BE57B72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F6EE-E041-40F1-8ED2-091D42A887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D23D-7229-42FC-A4FA-37A4BB994B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2531-F724-4446-9C9F-91D9D4B031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6835-2A0B-47EF-B23A-BA3A759EB7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5231-DD5B-42B5-8E41-72C15B5BD3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40 Svoje stádo vedieš, Pan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oje stádo vedieš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 pastvám sviežim, zelen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lovo tvoje neprest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osilou byť zomdlený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vce svoje z tejto z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ocným chrániš ramen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úšťou sveta vedieš ver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 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j spásy pram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oho, Pane, ak nie t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lávi našej vďaky žal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ď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i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išiel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nás trpel, umieral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adostne znie naša pies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nás vedie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ženie strach, smútok, ties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j slávy kynie c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ane, drahé Slovo tvo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vetlom je a pokrm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ile tvojej všetky bo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vŕšime víťazstvo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Už sa blíži čas ten blah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sa skončí naša pú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am u Otca, v dome slá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udeme môc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p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nú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13:06Z</dcterms:modified>
  <cp:revision>23</cp:revision>
  <dc:subject/>
  <dc:title>Je veľký náš Pán, on slávy je Kráľ Nech do všetkých strán  spev vrúcnych znie chvál.</dc:title>
</cp:coreProperties>
</file>